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EF9-2445-4DF9-9489-66FC6132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4073040"/>
            <a:ext cx="8001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8CD-117E-4810-8DCF-B8593C1A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40730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40730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0D7-24AC-401A-8264-59B09704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6286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6286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40730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40730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40730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939-FFA0-4398-8282-6601D34E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E685-84EB-491D-866E-B6868894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CD7B-1936-47E5-89DC-CEA3ECE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9F58-B87B-4AD0-8192-DFEA0BCA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E46D-B7BE-44DE-96EB-BC7D2416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D15F-4BBC-40A1-A2AC-58D23EED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3A5-8118-4AED-A771-91590199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40730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CEBC-9507-4594-BE69-4BF8555A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8EE-7D26-409F-95AB-8A62E2D8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40730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D288-1F53-4CE3-9F40-CE72A235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4073040"/>
            <a:ext cx="8001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F640-BB93-4EBE-8D1D-E4D7FD7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4073040"/>
            <a:ext cx="8001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CAD-39D9-47DC-9F5E-3C89A854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40730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40730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2B90-98AD-4DAF-9776-D29A06E9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6286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6286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40730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40730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4073040"/>
            <a:ext cx="2576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AAF1-2905-4DC5-9AA1-B40584D0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F61-3FDC-408B-AFE5-A2662FD2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569-92AF-4C4A-B02B-11257A2A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B26-E230-4B5A-870D-4B2382FF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411-3E77-4BBD-995F-C8B37CE2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40730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62C-DA8D-4930-872A-6B8CF141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40730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E90-4A07-43C7-836E-B6AEBCE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628640"/>
            <a:ext cx="3904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4073040"/>
            <a:ext cx="8001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D72-0933-4D8E-8981-452C6D8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48428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817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453360"/>
            <a:ext cx="16588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Juillet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39640" y="6453360"/>
            <a:ext cx="46083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IA Fondamentale – GDR 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9640" y="6453360"/>
            <a:ext cx="15145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9B4B-97FD-47E1-884A-4D24E6441108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A2E-AF15-446A-9917-4B51965FD6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ra.fr/mia/T/schiex" TargetMode="External"/><Relationship Id="rId3" Type="http://schemas.openxmlformats.org/officeDocument/2006/relationships/hyperlink" Target="http://www.inra.fr/mia/T/schiex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arlit.toulouse.inra.fr/cgi-bin/awki.cgi/SoftCSP" TargetMode="External"/><Relationship Id="rId3" Type="http://schemas.openxmlformats.org/officeDocument/2006/relationships/hyperlink" Target="http://carlit.toulouse.inra.fr/cgi-bin/awki.cgi/SoftCSP" TargetMode="External"/><Relationship Id="rId4" Type="http://schemas.openxmlformats.org/officeDocument/2006/relationships/hyperlink" Target="http://carlit.toulouse.inra.fr/cgi-bin/awki.cgi/SoftCSP" TargetMode="External"/><Relationship Id="rId5" Type="http://schemas.openxmlformats.org/officeDocument/2006/relationships/hyperlink" Target="http://carlit.toulouse.inra.fr/cgi-bin/awki.cgi/SoftCSP" TargetMode="External"/><Relationship Id="rId6" Type="http://schemas.openxmlformats.org/officeDocument/2006/relationships/hyperlink" Target="http://mulcyber.toulouse.inra.fr/projects/toolbar" TargetMode="External"/><Relationship Id="rId7" Type="http://schemas.openxmlformats.org/officeDocument/2006/relationships/hyperlink" Target="http://mulcyber.toulouse.inra.fr/projects/toolbar" TargetMode="External"/><Relationship Id="rId8" Type="http://schemas.openxmlformats.org/officeDocument/2006/relationships/hyperlink" Target="http://mulcyber.toulouse.inra.fr/projects/toolbar" TargetMode="External"/><Relationship Id="rId9" Type="http://schemas.openxmlformats.org/officeDocument/2006/relationships/hyperlink" Target="http://mulcyber.toulouse.inra.fr/projects/toolbar" TargetMode="External"/><Relationship Id="rId10" Type="http://schemas.openxmlformats.org/officeDocument/2006/relationships/hyperlink" Target="http://mulcyber.toulouse.inra.fr/projects/toulbar2" TargetMode="External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tp://ftp.di.unipi.it/pub/Papers/rossi/con-merge.ps.gz" TargetMode="External"/><Relationship Id="rId3" Type="http://schemas.openxmlformats.org/officeDocument/2006/relationships/hyperlink" Target="ftp://ftp.di.unipi.it/pub/Papers/rossi/con-merge.ps.gz" TargetMode="External"/><Relationship Id="rId4" Type="http://schemas.openxmlformats.org/officeDocument/2006/relationships/hyperlink" Target="ftp://ftp.di.unipi.it/pub/Papers/rossi/con-merge.ps.gz" TargetMode="External"/><Relationship Id="rId5" Type="http://schemas.openxmlformats.org/officeDocument/2006/relationships/hyperlink" Target="ftp://ftp.di.unipi.it/pub/Papers/rossi/con-merge.ps.gz" TargetMode="External"/><Relationship Id="rId6" Type="http://schemas.openxmlformats.org/officeDocument/2006/relationships/hyperlink" Target="ftp://ftp.di.unipi.it/pub/Papers/rossi/con-merge.ps.gz" TargetMode="External"/><Relationship Id="rId7" Type="http://schemas.openxmlformats.org/officeDocument/2006/relationships/hyperlink" Target="ftp://ftp.di.unipi.it/pub/Papers/rossi/con-merge.ps.gz" TargetMode="External"/><Relationship Id="rId8" Type="http://schemas.openxmlformats.org/officeDocument/2006/relationships/hyperlink" Target="ftp://ftp.di.unipi.it/pub/Papers/rossi/con-merge.ps.gz" TargetMode="External"/><Relationship Id="rId9" Type="http://schemas.openxmlformats.org/officeDocument/2006/relationships/hyperlink" Target="ftp://ftp.di.unipi.it/pub/Papers/rossi/con-merge.ps.gz" TargetMode="External"/><Relationship Id="rId10" Type="http://schemas.openxmlformats.org/officeDocument/2006/relationships/hyperlink" Target="ftp://ftp.di.unipi.it/pub/Papers/rossi/con-merge.ps.gz" TargetMode="External"/><Relationship Id="rId11" Type="http://schemas.openxmlformats.org/officeDocument/2006/relationships/hyperlink" Target="ftp://ftp.di.unipi.it/pub/Papers/rossi/con-merge.ps.gz" TargetMode="External"/><Relationship Id="rId12" Type="http://schemas.openxmlformats.org/officeDocument/2006/relationships/hyperlink" Target="ftp://ftp.di.unipi.it/pub/Papers/rossi/con-merge.ps.gz" TargetMode="External"/><Relationship Id="rId13" Type="http://schemas.openxmlformats.org/officeDocument/2006/relationships/hyperlink" Target="ftp://ftp.di.unipi.it/pub/Papers/rossi/con-merge.ps.gz" TargetMode="External"/><Relationship Id="rId14" Type="http://schemas.openxmlformats.org/officeDocument/2006/relationships/hyperlink" Target="ftp://ftp.di.unipi.it/pub/Papers/rossi/con-merge.ps.gz" TargetMode="External"/><Relationship Id="rId15" Type="http://schemas.openxmlformats.org/officeDocument/2006/relationships/hyperlink" Target="ftp://ftp.di.unipi.it/pub/Papers/rossi/con-merge.ps.gz" TargetMode="External"/><Relationship Id="rId16" Type="http://schemas.openxmlformats.org/officeDocument/2006/relationships/hyperlink" Target="ftp://ftp.di.unipi.it/pub/Papers/rossi/con-merge.ps.gz" TargetMode="External"/><Relationship Id="rId17" Type="http://schemas.openxmlformats.org/officeDocument/2006/relationships/hyperlink" Target="ftp://ftp.di.unipi.it/pub/Papers/rossi/con-merge.ps.gz" TargetMode="External"/><Relationship Id="rId18" Type="http://schemas.openxmlformats.org/officeDocument/2006/relationships/hyperlink" Target="ftp://ftp.di.unipi.it/pub/Papers/rossi/con-merge.ps.gz" TargetMode="External"/><Relationship Id="rId19" Type="http://schemas.openxmlformats.org/officeDocument/2006/relationships/hyperlink" Target="ftp://ftp.di.unipi.it/pub/Papers/rossi/con-merge.ps.gz" TargetMode="External"/><Relationship Id="rId20" Type="http://schemas.openxmlformats.org/officeDocument/2006/relationships/hyperlink" Target="ftp://ftp.di.unipi.it/pub/Papers/rossi/con-merge.ps.gz" TargetMode="External"/><Relationship Id="rId2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 réseaux de contraintes valuées aux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blèmes de décision séquentiel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87280" y="3715920"/>
            <a:ext cx="316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rebuchet MS"/>
                <a:ea typeface="Arial Unicode MS"/>
                <a:hlinkClick r:id="rId2"/>
              </a:rPr>
              <a:t>Thomas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rebuchet MS"/>
                <a:ea typeface="Arial Unicode MS"/>
                <a:hlinkClick r:id="rId3"/>
              </a:rPr>
              <a:t>Schi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INRA – Toul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3716280"/>
            <a:ext cx="316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édric Pra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ONERA - Toul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5705640"/>
            <a:ext cx="31669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Javier Larro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UPC - Barcel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1628640"/>
            <a:ext cx="5329080" cy="4729320"/>
          </a:xfrm>
          <a:prstGeom prst="roundRect">
            <a:avLst>
              <a:gd name="adj" fmla="val 16667"/>
            </a:avLst>
          </a:prstGeom>
          <a:solidFill>
            <a:srgbClr val="ff6600">
              <a:alpha val="2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2205000"/>
            <a:ext cx="1440000" cy="245268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452680"/>
              <a:gd name="textAreaBottom" fmla="*/ 2382480 h 2452680"/>
            </a:gdLst>
            <a:ahLst/>
            <a:rect l="textAreaLeft" t="textAreaTop" r="textAreaRight" b="textAreaBottom"/>
            <a:pathLst>
              <a:path w="21600" h="36786">
                <a:moveTo>
                  <a:pt x="3600" y="0"/>
                </a:moveTo>
                <a:arcTo wR="3600" hR="3600" stAng="16200000" swAng="-5400000"/>
                <a:lnTo>
                  <a:pt x="0" y="33186"/>
                </a:lnTo>
                <a:arcTo wR="3600" hR="3600" stAng="10800000" swAng="-5400000"/>
                <a:lnTo>
                  <a:pt x="18000" y="36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>
              <a:alpha val="2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2054160" y="3000240"/>
            <a:ext cx="2443320" cy="3106800"/>
          </a:xfrm>
          <a:custGeom>
            <a:avLst/>
            <a:gdLst>
              <a:gd name="textAreaLeft" fmla="*/ 119160 w 2443320"/>
              <a:gd name="textAreaRight" fmla="*/ 2324160 w 2443320"/>
              <a:gd name="textAreaTop" fmla="*/ 119160 h 3106800"/>
              <a:gd name="textAreaBottom" fmla="*/ 2987640 h 3106800"/>
            </a:gdLst>
            <a:ahLst/>
            <a:rect l="textAreaLeft" t="textAreaTop" r="textAreaRight" b="textAreaBottom"/>
            <a:pathLst>
              <a:path w="21600" h="27465">
                <a:moveTo>
                  <a:pt x="3600" y="0"/>
                </a:moveTo>
                <a:arcTo wR="3600" hR="3600" stAng="16200000" swAng="-5400000"/>
                <a:lnTo>
                  <a:pt x="0" y="23865"/>
                </a:lnTo>
                <a:arcTo wR="3600" hR="3600" stAng="10800000" swAng="-5400000"/>
                <a:lnTo>
                  <a:pt x="18000" y="27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>
              <a:alpha val="2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3645000"/>
            <a:ext cx="1440000" cy="1011240"/>
          </a:xfrm>
          <a:prstGeom prst="roundRect">
            <a:avLst>
              <a:gd name="adj" fmla="val 16667"/>
            </a:avLst>
          </a:prstGeom>
          <a:solidFill>
            <a:srgbClr val="ff6600">
              <a:alpha val="2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Structures de coûts et formalism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774880" y="39337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boolé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T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2376000" y="54450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tal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rdonn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594840" y="4221000"/>
            <a:ext cx="206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mi-annea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613200" y="22050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Valu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654280" y="2205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dempo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4869000"/>
            <a:ext cx="936360" cy="100800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008000"/>
              <a:gd name="textAreaBottom" fmla="*/ 962280 h 1008000"/>
            </a:gdLst>
            <a:ahLst/>
            <a:rect l="textAreaLeft" t="textAreaTop" r="textAreaRight" b="textAreaBottom"/>
            <a:pathLst>
              <a:path w="21600" h="23252">
                <a:moveTo>
                  <a:pt x="3600" y="0"/>
                </a:moveTo>
                <a:arcTo wR="3600" hR="3600" stAng="16200000" swAng="-5400000"/>
                <a:lnTo>
                  <a:pt x="0" y="19652"/>
                </a:lnTo>
                <a:arcTo wR="3600" hR="3600" stAng="10800000" swAng="-5400000"/>
                <a:lnTo>
                  <a:pt x="18000" y="232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>
              <a:alpha val="2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500360" y="2492280"/>
            <a:ext cx="21589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4554000" y="530064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ul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ritè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0" y="1708200"/>
            <a:ext cx="8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reil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435640" y="2565000"/>
            <a:ext cx="187308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rot="18168000">
            <a:off x="5951520" y="33688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ulti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940000" y="458136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C25-7A8D-4830-90C0-5F8CFB0EE0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Idempotenc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62828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</a:t>
            </a:r>
            <a:r>
              <a:rPr b="0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= a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(pour tout </a:t>
            </a:r>
            <a:r>
              <a:rPr b="0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Si </a:t>
            </a:r>
            <a:r>
              <a:rPr b="0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ominée par la fonction jointe de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D,C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D,C) ≡ (X,D,C</a:t>
            </a:r>
            <a:r>
              <a:rPr b="0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{f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}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2492280"/>
            <a:ext cx="486000" cy="760680"/>
          </a:xfrm>
          <a:prstGeom prst="downArrow">
            <a:avLst>
              <a:gd name="adj1" fmla="val 50000"/>
              <a:gd name="adj2" fmla="val 3913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2205000"/>
            <a:ext cx="486000" cy="1069920"/>
          </a:xfrm>
          <a:prstGeom prst="upDownArrow">
            <a:avLst>
              <a:gd name="adj1" fmla="val 50000"/>
              <a:gd name="adj2" fmla="val 4382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653000"/>
            <a:ext cx="8001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ontraintes: 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= 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  <a:ea typeface="Arial Unicode MS"/>
              </a:rPr>
              <a:t>Possibilistes:</a:t>
            </a: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= ma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50E-731A-457A-ADAB-FD046A20E4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</a:rPr>
              <a:t>Recherche systématiqu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ranch &amp; bound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éparation et é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I - Affectation (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conditioning</a:t>
            </a: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71640" y="2205000"/>
          <a:ext cx="1512720" cy="33498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7920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f(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,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2627280" y="3048120"/>
            <a:ext cx="187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[</a:t>
            </a:r>
            <a:r>
              <a:rPr b="0" lang="en-US" sz="2000" spc="-1" strike="noStrike">
                <a:solidFill>
                  <a:srgbClr val="07080f"/>
                </a:solidFill>
                <a:latin typeface="Arial Unicode MS"/>
                <a:ea typeface="新細明體"/>
              </a:rPr>
              <a:t>x</a:t>
            </a:r>
            <a:r>
              <a:rPr b="0" lang="en-US" sz="2000" spc="-1" strike="noStrike" baseline="-25000">
                <a:solidFill>
                  <a:srgbClr val="07080f"/>
                </a:solidFill>
                <a:latin typeface="Arial Unicode MS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7080f"/>
                </a:solidFill>
                <a:latin typeface="Arial Unicode MS"/>
                <a:ea typeface="新細明體"/>
              </a:rPr>
              <a:t>=b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3500280"/>
            <a:ext cx="1441440" cy="433440"/>
          </a:xfrm>
          <a:prstGeom prst="rightArrow">
            <a:avLst>
              <a:gd name="adj1" fmla="val 50000"/>
              <a:gd name="adj2" fmla="val 8314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32000" y="2205000"/>
          <a:ext cx="1152360" cy="1339920"/>
        </p:xfrm>
        <a:graphic>
          <a:graphicData uri="http://schemas.openxmlformats.org/drawingml/2006/table">
            <a:tbl>
              <a:tblPr/>
              <a:tblGrid>
                <a:gridCol w="360360"/>
                <a:gridCol w="7920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5075280" y="3076560"/>
            <a:ext cx="59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80f"/>
                </a:solidFill>
                <a:latin typeface="Arial Unicode MS"/>
                <a:ea typeface="新細明體"/>
              </a:rPr>
              <a:t>g(x</a:t>
            </a:r>
            <a:r>
              <a:rPr b="1" lang="en-US" sz="1600" spc="-1" strike="noStrike" baseline="-25000">
                <a:solidFill>
                  <a:srgbClr val="07080f"/>
                </a:solidFill>
                <a:latin typeface="Arial Unicode MS"/>
                <a:ea typeface="新細明體"/>
              </a:rPr>
              <a:t>j</a:t>
            </a:r>
            <a:r>
              <a:rPr b="1" lang="en-US" sz="1600" spc="-1" strike="noStrike">
                <a:solidFill>
                  <a:srgbClr val="07080f"/>
                </a:solidFill>
                <a:latin typeface="Arial Unicode MS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5796000" y="3263760"/>
            <a:ext cx="18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[</a:t>
            </a:r>
            <a:r>
              <a:rPr b="1" lang="en-US" sz="2000" spc="-1" strike="noStrike">
                <a:solidFill>
                  <a:srgbClr val="07080f"/>
                </a:solidFill>
                <a:latin typeface="Arial Unicode MS"/>
                <a:ea typeface="新細明體"/>
              </a:rPr>
              <a:t>x</a:t>
            </a:r>
            <a:r>
              <a:rPr b="1" lang="en-US" sz="2000" spc="-1" strike="noStrike" baseline="-25000">
                <a:solidFill>
                  <a:srgbClr val="07080f"/>
                </a:solidFill>
                <a:latin typeface="Arial Unicode MS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7080f"/>
                </a:solidFill>
                <a:latin typeface="Arial Unicode MS"/>
                <a:ea typeface="新細明體"/>
              </a:rPr>
              <a:t>=r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3787920"/>
            <a:ext cx="1441440" cy="433080"/>
          </a:xfrm>
          <a:prstGeom prst="rightArrow">
            <a:avLst>
              <a:gd name="adj1" fmla="val 50000"/>
              <a:gd name="adj2" fmla="val 8320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003640" y="3767040"/>
          <a:ext cx="790560" cy="669960"/>
        </p:xfrm>
        <a:graphic>
          <a:graphicData uri="http://schemas.openxmlformats.org/drawingml/2006/table">
            <a:tbl>
              <a:tblPr/>
              <a:tblGrid>
                <a:gridCol w="7905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979760" y="388476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080f"/>
                </a:solidFill>
                <a:latin typeface="Arial Unicode MS"/>
                <a:ea typeface="Arial Unicode MS"/>
              </a:rPr>
              <a:t>h</a:t>
            </a:r>
            <a:r>
              <a:rPr b="1" lang="fr-FR" sz="1600" spc="-1" strike="noStrike" baseline="-25000">
                <a:solidFill>
                  <a:srgbClr val="07080f"/>
                </a:solidFill>
                <a:latin typeface="Symbol"/>
                <a:ea typeface="Symbol"/>
              </a:rPr>
              <a:t>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C30-0F17-4874-BC21-945F058621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56059E-006 L 0.36215 0.12951 E">
                                      <p:cBhvr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30712 0.01435 E">
                                      <p:cBhvr>
                                        <p:cTn id="213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Recherche systématiqu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700280"/>
            <a:ext cx="3733560" cy="3862440"/>
          </a:xfrm>
          <a:custGeom>
            <a:avLst/>
            <a:gdLst/>
            <a:ahLst/>
            <a:rect l="l" t="t" r="r" b="b"/>
            <a:pathLst>
              <a:path w="3216" h="3072">
                <a:moveTo>
                  <a:pt x="1488" y="0"/>
                </a:moveTo>
                <a:lnTo>
                  <a:pt x="0" y="3072"/>
                </a:lnTo>
                <a:lnTo>
                  <a:pt x="3216" y="3072"/>
                </a:lnTo>
                <a:lnTo>
                  <a:pt x="1488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1700280"/>
            <a:ext cx="863640" cy="2665440"/>
          </a:xfrm>
          <a:custGeom>
            <a:avLst/>
            <a:gdLst/>
            <a:ahLst/>
            <a:rect l="l" t="t" r="r" b="b"/>
            <a:pathLst>
              <a:path w="480" h="1680">
                <a:moveTo>
                  <a:pt x="0" y="0"/>
                </a:moveTo>
                <a:lnTo>
                  <a:pt x="0" y="192"/>
                </a:lnTo>
                <a:lnTo>
                  <a:pt x="96" y="336"/>
                </a:lnTo>
                <a:lnTo>
                  <a:pt x="48" y="528"/>
                </a:lnTo>
                <a:lnTo>
                  <a:pt x="192" y="624"/>
                </a:lnTo>
                <a:lnTo>
                  <a:pt x="48" y="864"/>
                </a:lnTo>
                <a:lnTo>
                  <a:pt x="288" y="912"/>
                </a:lnTo>
                <a:lnTo>
                  <a:pt x="144" y="1152"/>
                </a:lnTo>
                <a:lnTo>
                  <a:pt x="480" y="1344"/>
                </a:lnTo>
                <a:lnTo>
                  <a:pt x="240" y="1488"/>
                </a:lnTo>
                <a:lnTo>
                  <a:pt x="432" y="1632"/>
                </a:lnTo>
                <a:lnTo>
                  <a:pt x="240" y="1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4419720"/>
            <a:ext cx="685800" cy="1143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7150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059280" y="3809880"/>
            <a:ext cx="1207800" cy="555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327560" y="3537000"/>
            <a:ext cx="30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LB) Minoran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734080"/>
            <a:ext cx="56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UB) Major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4822560" y="4759200"/>
            <a:ext cx="3606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i      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     alors coup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9120" y="1773360"/>
            <a:ext cx="1800" cy="378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275400" y="31226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4284720" y="3795840"/>
            <a:ext cx="35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us estimation de la meilleure solution dans le sous-arb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781360" y="57340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meilleure solution conn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3485880" y="2349360"/>
            <a:ext cx="52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haque nœud est un sous-problème VC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4772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932360" y="477216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6661080" y="3567240"/>
            <a:ext cx="10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793840" y="565956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869080" y="47721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947200" y="47721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2ED-29F3-4564-95BF-7AED9996D1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</a:rPr>
              <a:t>Recherche incomplète (locale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ien de vraiment spécif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</a:rPr>
              <a:t>Inférence complèt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limination de variable (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ucket eliminatio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grammation dynamique (non sériel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II - Combinaison (avec </a:t>
            </a:r>
            <a:r>
              <a:rPr b="1" lang="fr-FR" sz="3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+ ici</a:t>
            </a: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042920" y="1773360"/>
          <a:ext cx="1513080" cy="1793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792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f(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,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659640" y="1773360"/>
          <a:ext cx="1657440" cy="1746000"/>
        </p:xfrm>
        <a:graphic>
          <a:graphicData uri="http://schemas.openxmlformats.org/drawingml/2006/table">
            <a:tbl>
              <a:tblPr/>
              <a:tblGrid>
                <a:gridCol w="360360"/>
                <a:gridCol w="431640"/>
                <a:gridCol w="8654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g(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,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k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419640" y="2997360"/>
          <a:ext cx="2449440" cy="312552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431640"/>
                <a:gridCol w="11527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h(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,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,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k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4133880" y="1916280"/>
            <a:ext cx="66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2492280"/>
            <a:ext cx="720720" cy="360360"/>
          </a:xfrm>
          <a:prstGeom prst="rect">
            <a:avLst/>
          </a:prstGeom>
          <a:solidFill>
            <a:srgbClr val="a3b2c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4363920"/>
            <a:ext cx="865080" cy="360360"/>
          </a:xfrm>
          <a:prstGeom prst="rect">
            <a:avLst/>
          </a:prstGeom>
          <a:solidFill>
            <a:srgbClr val="a3b2c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732720" y="3141720"/>
            <a:ext cx="720720" cy="360360"/>
          </a:xfrm>
          <a:prstGeom prst="rect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4365720"/>
            <a:ext cx="865080" cy="360360"/>
          </a:xfrm>
          <a:prstGeom prst="rect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887440" y="4292640"/>
            <a:ext cx="4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302160" y="429264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0BE-098B-4677-996B-44A035BEF5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ahoma"/>
              </a:rPr>
              <a:t>III - Projection (élimination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vec </a:t>
            </a:r>
            <a:r>
              <a:rPr b="1" i="1" lang="fr-FR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ici</a:t>
            </a:r>
            <a:r>
              <a:rPr b="1" lang="fr-FR" sz="3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71640" y="2205000"/>
          <a:ext cx="1512720" cy="33498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7920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f(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,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2771640" y="3213000"/>
            <a:ext cx="14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[</a:t>
            </a:r>
            <a:r>
              <a:rPr b="1" lang="en-US" sz="2000" spc="-1" strike="noStrike">
                <a:solidFill>
                  <a:srgbClr val="07080f"/>
                </a:solidFill>
                <a:latin typeface="Arial Unicode MS"/>
                <a:ea typeface="新細明體"/>
              </a:rPr>
              <a:t>x</a:t>
            </a:r>
            <a:r>
              <a:rPr b="1" lang="en-US" sz="2000" spc="-1" strike="noStrike" baseline="-25000">
                <a:solidFill>
                  <a:srgbClr val="07080f"/>
                </a:solidFill>
                <a:latin typeface="Arial Unicode MS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7080f"/>
                </a:solidFill>
                <a:latin typeface="Arial Unicode MS"/>
                <a:ea typeface="新細明體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2771640" y="3665520"/>
            <a:ext cx="1441440" cy="433440"/>
          </a:xfrm>
          <a:prstGeom prst="rightArrow">
            <a:avLst>
              <a:gd name="adj1" fmla="val 50000"/>
              <a:gd name="adj2" fmla="val 8314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356000" y="3213000"/>
          <a:ext cx="1152360" cy="1339920"/>
        </p:xfrm>
        <a:graphic>
          <a:graphicData uri="http://schemas.openxmlformats.org/drawingml/2006/table">
            <a:tbl>
              <a:tblPr/>
              <a:tblGrid>
                <a:gridCol w="360360"/>
                <a:gridCol w="7920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g(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2556000" y="256536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4924440" y="3532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932360" y="4229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4924440" y="3868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3573360"/>
            <a:ext cx="144360" cy="93528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2556000" y="4581360"/>
            <a:ext cx="144360" cy="93528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3284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[</a:t>
            </a:r>
            <a:r>
              <a:rPr b="1" lang="en-US" sz="1800" spc="-1" strike="noStrike">
                <a:solidFill>
                  <a:srgbClr val="07080f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3736800"/>
            <a:ext cx="1441440" cy="433440"/>
          </a:xfrm>
          <a:prstGeom prst="rightArrow">
            <a:avLst>
              <a:gd name="adj1" fmla="val 50000"/>
              <a:gd name="adj2" fmla="val 8314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451640" y="3519360"/>
          <a:ext cx="792360" cy="66996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Arial Unicode MS"/>
                          <a:ea typeface="新細明體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5580000" y="3573360"/>
            <a:ext cx="144360" cy="93528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7667640" y="3821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2645640" y="28544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967-B456-4AF7-A93C-2DC9D917B8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Propriété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Remplacer deux fonctions par leur combinaison ne change pas le problèm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Si </a:t>
            </a:r>
            <a:r>
              <a:rPr b="0" i="1" lang="es-ES" sz="3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" sz="3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  est la seule fonction impliquant </a:t>
            </a:r>
            <a:r>
              <a:rPr b="0" i="1" lang="es-ES" sz="3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, remplacer </a:t>
            </a:r>
            <a:r>
              <a:rPr b="0" i="1" lang="es-ES" sz="3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  par </a:t>
            </a:r>
            <a:r>
              <a:rPr b="0" i="1" lang="es-ES" sz="3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[S-{</a:t>
            </a:r>
            <a:r>
              <a:rPr b="0" i="1" lang="es-ES" sz="3000" spc="-1" strike="noStrike">
                <a:solidFill>
                  <a:srgbClr val="000000"/>
                </a:solidFill>
                <a:latin typeface="Tahoma"/>
              </a:rPr>
              <a:t>x}</a:t>
            </a: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] préserve l’optimu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5F4-BDAD-43EE-93AC-5D3616B7BC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Plan (partie 1)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alisme VC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énérique, instances, u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gorithmes pour les VC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herche complète et incomplè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érence complète et incomplè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lexité, classes polynom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1FC-BD2F-40D7-8E77-267B3F5FE0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Elimination d’une variabl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628280"/>
            <a:ext cx="8001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Choisir une varia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Combiner les fonctions qui l’impli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Eliminer la variable par projec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727920" y="3807000"/>
            <a:ext cx="58374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exit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emps: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exp(</a:t>
            </a:r>
            <a:r>
              <a:rPr b="0" lang="fr-FR" sz="2800" spc="-1" strike="noStrike">
                <a:solidFill>
                  <a:srgbClr val="ff0101"/>
                </a:solidFill>
                <a:latin typeface="Tahoma"/>
              </a:rPr>
              <a:t>deg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+1)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space: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exp(</a:t>
            </a:r>
            <a:r>
              <a:rPr b="0" lang="fr-FR" sz="2800" spc="-1" strike="noStrike">
                <a:solidFill>
                  <a:srgbClr val="ff0101"/>
                </a:solidFill>
                <a:latin typeface="Tahoma"/>
              </a:rPr>
              <a:t>deg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289-AA7C-4686-9675-39881BDE08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Elimination de variables 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(bucket elimination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Eliminer les variables une par un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Quand toutes sont éliminées, le </a:t>
            </a:r>
            <a:r>
              <a:rPr b="1" lang="fr-FR" sz="3000" spc="-1" strike="noStrike">
                <a:solidFill>
                  <a:srgbClr val="000000"/>
                </a:solidFill>
                <a:latin typeface="Tahoma"/>
              </a:rPr>
              <a:t>problème est résol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Les solutions optimales peuvent être retrouvé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687960" y="4724280"/>
            <a:ext cx="8235000" cy="26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ahoma"/>
              </a:rPr>
              <a:t>Complexité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: exponentielle en la largeur d’arb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(treewidth, k-tree number, induced width, dimension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pend de l’ordre d’é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C1B-68C7-4239-850B-779012B105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001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Tahoma"/>
              </a:rPr>
              <a:t>SAT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: résolution direct. (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avis &amp; Putnam, 60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Tahoma"/>
              </a:rPr>
              <a:t>RO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: Pr. dyn. non sérielle (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rtelé Brioschi, 72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Tahoma"/>
              </a:rPr>
              <a:t>SGBD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: BD acyclique (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eri et al 1983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Tahoma"/>
              </a:rPr>
              <a:t>Réseaux bayésiens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: Belief propagation, Join-tree (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earl 88, Lauritzen et Spiegelhalter 88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Tahoma"/>
              </a:rPr>
              <a:t>CSP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: cohérence adapt… (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chter &amp; Pearl 88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Algébrisée (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henoy et Shafer 91, Bistarelli et al. 95, GDL 2000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Histoire / terminologi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BC0-6915-4A48-8BF8-0D4720398F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</a:rPr>
              <a:t>Inférence incomplèt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hérence locale, filtrage, propa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291280" y="551664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le coût optim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Inférence incomplèt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Compromis espace/temps - complétu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Limiter l’inférence à la production de certaines classes de fonctions de coû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En espace/temps polynomi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Cohérences locales: noeud, arc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Produire un problème équival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Produire un minorant sur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5291280" y="551664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la cohé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A91-F457-4C82-B089-CD4CC76C71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Cohérence d’arc classiqu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Un CSP est AC ssi </a:t>
            </a:r>
            <a:r>
              <a:rPr b="0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Tahoma"/>
              </a:rPr>
              <a:t>i, </a:t>
            </a:r>
            <a:r>
              <a:rPr b="0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Tahoma"/>
              </a:rPr>
              <a:t>ij,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⋈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)[x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] n’apporte pas d’information sur x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078440"/>
            <a:ext cx="6094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1106640" y="4086360"/>
            <a:ext cx="6094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3932280" y="430704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3932280" y="476424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1258920" y="431496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477216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393440" y="4764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807120" y="423864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394880" y="423072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805680" y="4772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3929400" y="42847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3929400" y="4741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1256400" y="43164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1256040" y="4749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1257120" y="52293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3927240" y="52293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4" name=""/>
          <p:cNvCxnSpPr>
            <a:stCxn id="268" idx="1"/>
            <a:endCxn id="271" idx="3"/>
          </p:cNvCxnSpPr>
          <p:nvPr/>
        </p:nvCxnSpPr>
        <p:spPr>
          <a:xfrm flipH="1">
            <a:off x="1593360" y="4468680"/>
            <a:ext cx="23392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69" idx="1"/>
            <a:endCxn id="271" idx="3"/>
          </p:cNvCxnSpPr>
          <p:nvPr/>
        </p:nvCxnSpPr>
        <p:spPr>
          <a:xfrm flipH="1">
            <a:off x="1593360" y="4925880"/>
            <a:ext cx="23392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2565000" y="429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25650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3640" y="4149720"/>
          <a:ext cx="1224000" cy="2160720"/>
        </p:xfrm>
        <a:graphic>
          <a:graphicData uri="http://schemas.openxmlformats.org/drawingml/2006/table">
            <a:tbl>
              <a:tblPr/>
              <a:tblGrid>
                <a:gridCol w="416160"/>
                <a:gridCol w="399960"/>
                <a:gridCol w="407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7091280" y="4476600"/>
          <a:ext cx="1295640" cy="1278000"/>
        </p:xfrm>
        <a:graphic>
          <a:graphicData uri="http://schemas.openxmlformats.org/drawingml/2006/table">
            <a:tbl>
              <a:tblPr/>
              <a:tblGrid>
                <a:gridCol w="503280"/>
                <a:gridCol w="7923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(x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5140440" y="3645000"/>
            <a:ext cx="84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⋈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494172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7081200" y="3932280"/>
            <a:ext cx="128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⋈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[x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F21-0CAE-491C-A7E9-0B3A9A0A68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Extension « naïve » au cas valué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3567240"/>
            <a:ext cx="6094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1035000" y="3575160"/>
            <a:ext cx="6094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3860640" y="379584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3860640" y="425304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380376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187280" y="426096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4321800" y="4253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735480" y="372744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4323240" y="371952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734040" y="426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3860280" y="3795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3860280" y="4253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1186920" y="3803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1186920" y="4260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1185840" y="47181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855600" y="47181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0" name=""/>
          <p:cNvCxnSpPr>
            <a:stCxn id="294" idx="1"/>
            <a:endCxn id="297" idx="3"/>
          </p:cNvCxnSpPr>
          <p:nvPr/>
        </p:nvCxnSpPr>
        <p:spPr>
          <a:xfrm flipH="1">
            <a:off x="1482120" y="3963960"/>
            <a:ext cx="23785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5" idx="1"/>
            <a:endCxn id="297" idx="3"/>
          </p:cNvCxnSpPr>
          <p:nvPr/>
        </p:nvCxnSpPr>
        <p:spPr>
          <a:xfrm flipH="1">
            <a:off x="1482120" y="4421160"/>
            <a:ext cx="23785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2493360" y="378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493360" y="450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932360" y="3638520"/>
          <a:ext cx="1368360" cy="1976400"/>
        </p:xfrm>
        <a:graphic>
          <a:graphicData uri="http://schemas.openxmlformats.org/drawingml/2006/table">
            <a:tbl>
              <a:tblPr/>
              <a:tblGrid>
                <a:gridCol w="415800"/>
                <a:gridCol w="376200"/>
                <a:gridCol w="5763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7020000" y="3965400"/>
          <a:ext cx="1295280" cy="1185840"/>
        </p:xfrm>
        <a:graphic>
          <a:graphicData uri="http://schemas.openxmlformats.org/drawingml/2006/table">
            <a:tbl>
              <a:tblPr/>
              <a:tblGrid>
                <a:gridCol w="503280"/>
                <a:gridCol w="7920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(x</a:t>
                      </a:r>
                      <a:r>
                        <a:rPr b="0" lang="fr-FR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049000" y="3141720"/>
            <a:ext cx="73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300720" y="4430880"/>
            <a:ext cx="503280" cy="215640"/>
          </a:xfrm>
          <a:prstGeom prst="rightArrow">
            <a:avLst>
              <a:gd name="adj1" fmla="val 50000"/>
              <a:gd name="adj2" fmla="val 5834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8" name=""/>
          <p:cNvCxnSpPr>
            <a:endCxn id="297" idx="2"/>
          </p:cNvCxnSpPr>
          <p:nvPr/>
        </p:nvCxnSpPr>
        <p:spPr>
          <a:xfrm flipV="1" rot="16200000">
            <a:off x="4349880" y="1581480"/>
            <a:ext cx="554760" cy="6585480"/>
          </a:xfrm>
          <a:prstGeom prst="curvedConnector5">
            <a:avLst>
              <a:gd name="adj1" fmla="val -113701"/>
              <a:gd name="adj2" fmla="val 50000"/>
              <a:gd name="adj3" fmla="val -113701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1194480" y="42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584028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oujours équivalent ss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est idempo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Pour tout x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et f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f=(f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)[x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]  n’apporte pas d’information sur x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126560" y="35002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(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[x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6050160" y="580536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101"/>
                </a:solidFill>
                <a:latin typeface="Arial Black"/>
              </a:rPr>
              <a:t>SIN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101"/>
                </a:solidFill>
                <a:latin typeface="Arial Black"/>
              </a:rPr>
              <a:t>EQUIVALENCE PER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411-D212-4FE4-95C6-5697DBCF36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10920" y="5229360"/>
            <a:ext cx="777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Combinaison+Projection+Soustraction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« </a:t>
            </a:r>
            <a:r>
              <a:rPr b="0" i="1" lang="fr-FR" sz="3000" spc="-1" strike="noStrike">
                <a:solidFill>
                  <a:srgbClr val="000000"/>
                </a:solidFill>
                <a:latin typeface="Tahoma"/>
              </a:rPr>
              <a:t>Equivalence Preserving Transformation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»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ahoma"/>
              </a:rPr>
              <a:t>IV – Soustraction de fonctions de coût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4141440" y="291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356080" y="2703600"/>
            <a:ext cx="60984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2682720" y="2711520"/>
            <a:ext cx="60984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293220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5508720" y="338940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835360" y="29401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2835360" y="3397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5969880" y="338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2383560" y="286380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5970960" y="285588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382120" y="3397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5508000" y="2932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5508000" y="3389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2834640" y="2940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833560" y="38545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5503680" y="38545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2" name=""/>
          <p:cNvCxnSpPr>
            <a:stCxn id="327" idx="1"/>
          </p:cNvCxnSpPr>
          <p:nvPr/>
        </p:nvCxnSpPr>
        <p:spPr>
          <a:xfrm flipH="1">
            <a:off x="3130200" y="3100320"/>
            <a:ext cx="23788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8" idx="1"/>
          </p:cNvCxnSpPr>
          <p:nvPr/>
        </p:nvCxnSpPr>
        <p:spPr>
          <a:xfrm flipH="1">
            <a:off x="3130200" y="3557520"/>
            <a:ext cx="23788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4141440" y="3638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282060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281088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4146120" y="2917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1A0-398D-46F3-B7DB-6039BA411C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771640" y="2852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2852640"/>
            <a:ext cx="288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357336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2611440" y="273204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2611440" y="342900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Production de minorants non naïf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411280" y="2349360"/>
            <a:ext cx="68292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2127960" y="338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2620440" y="270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2610720" y="3429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551556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2630520" y="19890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2129400" y="263700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5491080" y="273204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5491080" y="342900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291280" y="2349360"/>
            <a:ext cx="68256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5969880" y="338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490360" y="273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5490360" y="3429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5970960" y="263700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2626560" y="270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714360" y="3025800"/>
            <a:ext cx="75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7310160" y="3059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7314840" y="3043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400464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3387240" y="2990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4004640" y="24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42B-AF2A-44DB-9DBE-B7D713492A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4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4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771640" y="2852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2771640" y="2852640"/>
            <a:ext cx="288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2771640" y="357336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2611440" y="273204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2611440" y="342900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Confluence perdu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900000" y="4797360"/>
            <a:ext cx="777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La recherche d’un point-fixe qui maximis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est NP-difficile (2004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5877000"/>
            <a:ext cx="8605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l est possible de faire mieux en temps polynomial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OSAC,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2411280" y="2349360"/>
            <a:ext cx="68292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2127960" y="338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2620440" y="270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2610720" y="3429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551556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2630520" y="19890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129400" y="263700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5491080" y="273204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5491080" y="342900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5291280" y="2349360"/>
            <a:ext cx="68256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5969880" y="338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5490360" y="273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5490360" y="3429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5970960" y="2637000"/>
            <a:ext cx="2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"/>
          <p:cNvSpPr/>
          <p:nvPr/>
        </p:nvSpPr>
        <p:spPr>
          <a:xfrm>
            <a:off x="6714360" y="3025800"/>
            <a:ext cx="75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7310160" y="3059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5500080" y="3429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400464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>
            <a:off x="3387240" y="2990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4004640" y="24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7E9-EBE2-44DE-8028-C679C316F3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8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9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Réseaux de contraintes, SAT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blèmes de </a:t>
            </a:r>
            <a:r>
              <a:rPr b="0" i="1" lang="en-US" sz="3000" spc="-1" strike="noStrike">
                <a:solidFill>
                  <a:srgbClr val="000000"/>
                </a:solidFill>
                <a:latin typeface="Tahoma"/>
              </a:rPr>
              <a:t>décision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(booléens) définis par un ensemble de </a:t>
            </a:r>
            <a:r>
              <a:rPr b="1" lang="en-US" sz="3000" spc="-1" strike="noStrike">
                <a:solidFill>
                  <a:srgbClr val="ff0101"/>
                </a:solidFill>
                <a:latin typeface="Tahoma"/>
              </a:rPr>
              <a:t>relations locale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(contraintes, clauses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Réseaux valué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: Ajout de préférences, incertitudes définies par des </a:t>
            </a:r>
            <a:r>
              <a:rPr b="1" lang="en-US" sz="3000" spc="-1" strike="noStrike">
                <a:solidFill>
                  <a:srgbClr val="ff0101"/>
                </a:solidFill>
                <a:latin typeface="Tahoma"/>
              </a:rPr>
              <a:t>fonctions locale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=&gt; optimisation.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Pourquoi les VCSP ?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42C-0F4A-47BB-9E94-0F9C248108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 rot="1761600">
            <a:off x="34560" y="2997360"/>
            <a:ext cx="6411960" cy="2806560"/>
          </a:xfrm>
          <a:prstGeom prst="ellipse">
            <a:avLst/>
          </a:prstGeom>
          <a:noFill/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Hierarchi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3074040" y="1560600"/>
            <a:ext cx="18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C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n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2909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5223600" y="2909880"/>
            <a:ext cx="21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AC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ed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2810880" y="4005360"/>
            <a:ext cx="25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DAC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end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692360" y="2093760"/>
            <a:ext cx="1660320" cy="758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2093760"/>
            <a:ext cx="2156040" cy="83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3357720"/>
            <a:ext cx="2362320" cy="690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635280" y="3357720"/>
            <a:ext cx="1851120" cy="690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6091200" y="4221000"/>
            <a:ext cx="7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新細明體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5256720" y="148428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新細明體"/>
              </a:rPr>
              <a:t>N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7629480" y="2833560"/>
            <a:ext cx="10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新細明體"/>
              </a:rPr>
              <a:t>DA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"/>
          <p:cNvSpPr/>
          <p:nvPr/>
        </p:nvSpPr>
        <p:spPr>
          <a:xfrm>
            <a:off x="3924360" y="476280"/>
            <a:ext cx="460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101"/>
                </a:solidFill>
                <a:latin typeface="Tahoma"/>
              </a:rPr>
              <a:t>Cas CSP classique (Top=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"/>
          <p:cNvSpPr/>
          <p:nvPr/>
        </p:nvSpPr>
        <p:spPr>
          <a:xfrm>
            <a:off x="2898360" y="4869000"/>
            <a:ext cx="40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DAC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x{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nd,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}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/>
          <p:nvPr/>
        </p:nvSpPr>
        <p:spPr>
          <a:xfrm>
            <a:off x="3492360" y="450864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3945240" y="5661000"/>
            <a:ext cx="38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SAC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og. Linéai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3492360" y="5300640"/>
            <a:ext cx="792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B6D-5563-4005-B476-6571DC13639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828800" y="990720"/>
            <a:ext cx="5105520" cy="4876560"/>
          </a:xfrm>
          <a:custGeom>
            <a:avLst/>
            <a:gdLst/>
            <a:ahLst/>
            <a:rect l="l" t="t" r="r" b="b"/>
            <a:pathLst>
              <a:path w="3216" h="3072">
                <a:moveTo>
                  <a:pt x="1488" y="0"/>
                </a:moveTo>
                <a:lnTo>
                  <a:pt x="0" y="3072"/>
                </a:lnTo>
                <a:lnTo>
                  <a:pt x="3216" y="3072"/>
                </a:lnTo>
                <a:lnTo>
                  <a:pt x="1488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51814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48769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4449600"/>
            <a:ext cx="51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124080" y="449568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57800" y="449568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916920" y="4221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N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581280" y="37890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800600" y="37890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1905120" y="3708360"/>
            <a:ext cx="51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9242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500720" y="303516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873600" y="303516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3600" y="340344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C/MDA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>
            <a:off x="543240" y="26845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FDA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1835280" y="22050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211640" y="2242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542880" y="19890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DA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C4F-18A1-43A3-B752-2F26EE73485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Accélérer la recherche systématique par cohérence local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新細明體"/>
              </a:rPr>
              <a:t>Affectation de fréque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新細明體"/>
              </a:rPr>
              <a:t>CELAR6-sub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(22 var, 44 val, 477 cost func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新細明體"/>
              </a:rPr>
              <a:t>MNC*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新細明體"/>
              </a:rPr>
              <a:t>1 an estim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新細明體"/>
              </a:rPr>
              <a:t>MFDAC*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新細明體"/>
              </a:rPr>
              <a:t> 1 he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新細明體"/>
              </a:rPr>
              <a:t>CELAR6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(100 var, 44 val, 1322 cost func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新細明體"/>
              </a:rPr>
              <a:t>MEDAC+ structur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新細明體"/>
              </a:rPr>
              <a:t> 3 heures (toolbar-BT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673-6A37-422D-911F-A280016E55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</a:rPr>
              <a:t>Complexité, classes polynomial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rbres, largeur d’arbre born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empotent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ou n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Classes polynomiales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Réseaux min-max (possibilistes/flou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0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-coupes permettent de généraliser les classes pol. classiqu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Il suffit que la classe polynomiale soit conservée par </a:t>
            </a:r>
            <a:r>
              <a:rPr b="0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-coup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SP temporel simple (avec des 1-intervalles de temps) : </a:t>
            </a: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i="1" lang="fr-FR" sz="26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∊[a</a:t>
            </a:r>
            <a:r>
              <a:rPr b="0" i="1" lang="fr-FR" sz="26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ij</a:t>
            </a:r>
            <a:r>
              <a:rPr b="0" i="1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b</a:t>
            </a:r>
            <a:r>
              <a:rPr b="0" i="1" lang="fr-FR" sz="26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ij</a:t>
            </a:r>
            <a:r>
              <a:rPr b="0" i="1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STCN flous: pol. si toute coupe des fonctions de coût est un 1-intervalle (semi-convex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826920" y="3716280"/>
            <a:ext cx="287640" cy="2232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69"/>
                </a:lnTo>
                <a:cubicBezTo>
                  <a:pt x="10800" y="10269"/>
                  <a:pt x="5400" y="11169"/>
                  <a:pt x="0" y="11169"/>
                </a:cubicBezTo>
                <a:cubicBezTo>
                  <a:pt x="5400" y="11169"/>
                  <a:pt x="10800" y="12069"/>
                  <a:pt x="10800" y="1296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250920" y="472428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951-75B9-4DD6-8831-C7D06E1553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Cas additif</a:t>
            </a:r>
            <a:br>
              <a:rPr sz="3400"/>
            </a:b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(weighted/boolean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73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MaxSat est MAXSNP complet (pas de PTAS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Langages pol. totalement caractérisés pour MaxSAT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(Creignou 2001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MaxCSP: 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 = y) ? 0 : 1</a:t>
            </a: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 est NP-du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Fonctions sous-modulaires: polynomial (OSAC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(u ≤ x, v ≤ y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f(u,v)+f(x,y) ≤ f(u,y)+f(x,v)) 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(Cohen et al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241-20CA-4E15-961D-88F6E7286F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Librairies Open source</a:t>
            </a:r>
            <a:br>
              <a:rPr sz="3200"/>
            </a:b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oolbar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Toulbar2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-324000" y="1628640"/>
            <a:ext cx="907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cessible depuis le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wiki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oft 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carlit.toulouse.inra.fr/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cgi-bin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4"/>
              </a:rPr>
              <a:t>/awki.cgi/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5"/>
              </a:rPr>
              <a:t>SoftC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lg: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BE-VE,MNC,MAC,MDAC,MFDAC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,MEDAC,MPIC,BT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Connexion ILOG solver, large domaines/problème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ormats MaxCSP/SAT (pondérés) et ERGO (B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 milliers de benchmarks, format documen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ointeurs vers d’autres outils (MaxSAT/C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orge 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6"/>
              </a:rPr>
              <a:t>mulcyber.toulouse.inra.fr/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7"/>
              </a:rPr>
              <a:t>projects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8"/>
              </a:rPr>
              <a:t>/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9"/>
              </a:rPr>
              <a:t>toolbar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fr-FR" sz="2800" spc="-1" strike="noStrike" u="sng">
                <a:solidFill>
                  <a:srgbClr val="336699"/>
                </a:solidFill>
                <a:uFillTx/>
                <a:latin typeface="Arial Narrow"/>
                <a:hlinkClick r:id="rId10"/>
              </a:rPr>
              <a:t>toulbar2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7236000" y="4724280"/>
            <a:ext cx="180000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Trebuchet MS"/>
              </a:rPr>
              <a:t>Pwd: bia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A22-0F30-4361-8F6B-7B187F2616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Plus sur le sujet…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472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Handbook of Constraint Programm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978 pages, Août 2006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21280" cy="465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4F1-676B-474E-8B61-09FF3B59A1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Un point 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aucoup reste à f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echniques: symétries, apprentissage, compilation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lgorithmes: meilleurs minorants, nouvelles cohérences locales, dominance, fonctions de coûts globales, structure du problè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mplémentation: intégration avec les outils classiques (Choco, Solver, Minio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pplications: modélisation, résolution, heuristiques (guider), résolution incomplèt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Extension: à d’autres problèmes que l’optimisation (compter, quantifier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1D0-A7DE-445E-9D13-6DB557C0B7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Changement</a:t>
            </a: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364000" y="3357720"/>
            <a:ext cx="2505240" cy="28573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Substitution: arms are crossed high across the chest"/>
          <p:cNvPicPr/>
          <p:nvPr/>
        </p:nvPicPr>
        <p:blipFill>
          <a:blip r:embed="rId3"/>
          <a:stretch/>
        </p:blipFill>
        <p:spPr>
          <a:xfrm>
            <a:off x="1042920" y="3716280"/>
            <a:ext cx="2838600" cy="21337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5364000" y="3284640"/>
            <a:ext cx="2354400" cy="2950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3132000" y="191628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140360" y="191628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Combinai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rojection/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3130560" y="191628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291-8B19-4A19-AD45-EDFF9D07C49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Exempl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628280"/>
            <a:ext cx="8001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ffectation de fré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2981160" cy="1714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76720" y="1773360"/>
            <a:ext cx="58672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Un réseau de télécommunication sans f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Sous contraintes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trouver pour chaque lien la </a:t>
            </a:r>
            <a:r>
              <a:rPr b="0" lang="fr-FR" sz="2600" spc="-1" strike="noStrike">
                <a:solidFill>
                  <a:srgbClr val="ff0101"/>
                </a:solidFill>
                <a:latin typeface="Tahoma"/>
              </a:rPr>
              <a:t>meilleure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fréquence possi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4653000"/>
            <a:ext cx="8001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101"/>
                </a:solidFill>
                <a:latin typeface="Tahoma"/>
              </a:rPr>
              <a:t>Meilleure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peut être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ahoma"/>
              </a:rPr>
              <a:t>Qui minimise la fréquence maximum (max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ahoma"/>
              </a:rPr>
              <a:t>Qui minimise les interférences entre paires de liens (somm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A3B-000A-4AE6-9329-160BC72047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Discussion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WCSP et CS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Un WCSP peut se modéliser comme un CS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Une fonction de coût f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Une nouvelle variable x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Une contrainte R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  x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= f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(…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Pourquoi s’intéresser aux WCSP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C74-FE7B-4288-B679-C0B3472574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Discussion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Les modèles « graphiques » omniprésents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IAF (SAT, CSP, BN…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Planification / Décision séquentiel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Analyse d’image (Champs Markov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Théorie du signal (Factor graph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Statistique, machine learn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Modélisation de systèmes complex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Un modèle fédérateur 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6C6-CD78-4D90-9530-D800804680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Discussion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Si les modèles graphiques le permett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N’y a-t-il pas un intérêt scientifique à fédérer les formalismes, propriétés, algorithmes 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omment peut-on faire ? Sans s’éloigner des objectifs (applications) de chacun d’eux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ela est-il incompatible avec le « Publish or Perish »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20F-BA92-4A52-8CF1-164EC89E3A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Discussion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ahoma"/>
              </a:rPr>
              <a:t>IA fondamentale et mise en oeuvr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Ne faut-il pas dédier une partie plus importante des efforts de l’IAF à la résolution jusqu’au boutiste de problèmes « pratiques » 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Incohérent avec le côté fondamental 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Quels problèmes ? Visibilité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3FA-13FE-4633-BB8A-09CB22595E4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Des référenc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611280" y="1557360"/>
            <a:ext cx="8001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S.M. Aji, R.J. McEliece. The Generalized Distributive Law. IEEE Trans. Inform. Theory, 46(2). Mars 2000, pages 325-343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S. Bistarelli, U. Montanari and F. Rossi, Semiring-based Constraint Satisfaction and Optimization, </a:t>
            </a: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Journal of ACM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, vol.44, n.2, pp. 201-236, March 199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S. Bistarelli, H. Fargier, U. Montanari, F. Rossi, T. Schiex, G. Verfaillie.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Semiring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-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4"/>
              </a:rPr>
              <a:t>Based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5"/>
              </a:rPr>
              <a:t>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6"/>
              </a:rPr>
              <a:t>CSPs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7"/>
              </a:rPr>
              <a:t>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8"/>
              </a:rPr>
              <a:t>and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9"/>
              </a:rPr>
              <a:t>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0"/>
              </a:rPr>
              <a:t>Valued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1"/>
              </a:rPr>
              <a:t>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2"/>
              </a:rPr>
              <a:t>CSPs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3"/>
              </a:rPr>
              <a:t>: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4"/>
              </a:rPr>
              <a:t>Frameworks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5"/>
              </a:rPr>
              <a:t>,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6"/>
              </a:rPr>
              <a:t>Properties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7"/>
              </a:rPr>
              <a:t>,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8"/>
              </a:rPr>
              <a:t>and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19"/>
              </a:rPr>
              <a:t> </a:t>
            </a:r>
            <a:r>
              <a:rPr b="0" lang="es-ES" sz="1500" spc="-1" strike="noStrike" u="sng">
                <a:solidFill>
                  <a:srgbClr val="336699"/>
                </a:solidFill>
                <a:uFillTx/>
                <a:latin typeface="Tahoma"/>
                <a:hlinkClick r:id="rId20"/>
              </a:rPr>
              <a:t>Comparison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CONSTRAINTS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, Vol.4, N.3, September 1999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S. Bistarelli, R. Gennari, F. Rossi. Constraint Propagation for Soft Constraint Satisfaction Problems: Generalization and Termination Conditions , in </a:t>
            </a: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Proc. CP 200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C. Blum and A. Roli. Metaheuristics in combinatorial optimization: Overview and conceptual comparison. </a:t>
            </a: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ACM Computing Surveys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, 35(3):268-308, 2003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T. Schiex, 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Arc consistency for soft constraints</a:t>
            </a: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, in Proc. CP’2000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M. Cooper, T. Schiex.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 Arc consistency for soft constraints, </a:t>
            </a: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Artificial Intelligence, Volume 154 (1-2), 199-227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 2004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M. Cooper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. Reduction Operations in fuzzy or valued constraint satisfaction problems. Fuzzy Sets and Systems 134 (3) 2003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A. Darwiche.</a:t>
            </a:r>
            <a:r>
              <a:rPr b="1" lang="es-E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Recursive Conditioning</a:t>
            </a:r>
            <a:r>
              <a:rPr b="1" lang="es-E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 Artificial Intelligence. Vol 125, No 1-2, pages 5-41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R. Dechter.</a:t>
            </a:r>
            <a:r>
              <a:rPr b="1" lang="es-E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Bucket Elimination: A unifying framework for Reasoning</a:t>
            </a:r>
            <a:r>
              <a:rPr b="1" lang="es-ES" sz="15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Artificial Intelligence, October, 1999.</a:t>
            </a: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R. Dechter, Mini-Buckets: A General Scheme For Generating Approximations In Automated Reasoning </a:t>
            </a:r>
            <a:r>
              <a:rPr b="0" i="1" lang="es-ES" sz="1500" spc="-1" strike="noStrike">
                <a:solidFill>
                  <a:srgbClr val="000000"/>
                </a:solidFill>
                <a:latin typeface="Tahoma"/>
              </a:rPr>
              <a:t>In Proc. Of IJCAI97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CEB-A139-4085-AF4C-16FD4B2346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S. de Givry, F. Heras, J. Larrosa &amp; M. Zytnicki. Existential arc consistency: getting closer to full arc consistency in weighted CSPs. In IJCAI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W.-J. van Hoeve, G. Pesant and L.-M. Rousseau. On Global Warming: Flow-Based Soft Global Constraints. Journal of Heuristics 12(4-5), pp. 347-373, 2006.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. Jégou &amp; C. Terrioux. Hybrid backtracking bounded by tree-decomposition of constraint networks. Artif. Intell. 146(1): 43-75 (2003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.R. Kschischang, B.J.Frey, H-A Loeliger. Factor Graphs and the Sum-Product Algorithm. IEEE Trans. Inf. Theory. 47(2), Février 2001. pages 498-51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J. Larrosa &amp; T. Schiex. Solving Weighted CSP by Maintaining Arc Consistency. </a:t>
            </a: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. 159 (1-2): 1-26, 200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J. Larrosa and T. Schiex.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 the quest of the best form of local consistency for Weighted CSP, Proc. of IJCAI'0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J. Larrosa, P. Meseguer, T. Schiex Maintaining Reversible DAC for MAX-CSP. </a:t>
            </a: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.107(1), pp. 149-163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R. Marinescu and R. Dechter. AND/OR Branch-and-Bound for Graphical Models. </a:t>
            </a: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In proceedings of IJCAI'2005.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J.C. Regin, T. Petit, C. Bessiere and J.F. Puget. An original constraint based approach for solving over constrained problems. In Proc. CP'2000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T. Schiex, H. Fargier et G. Verfaillie.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Valued Constraint Satisfaction Problems: hard and easy problems</a:t>
            </a: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roc. of IJCAI 95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G. Shafer, P. Shenoy.  Local computations in hyper-trees. Working paper 201. Juillet 1991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ahoma"/>
              </a:rPr>
              <a:t>G. Verfaillie, M. Lemaitre et T. Schiex.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Russian Doll Search Proc. of AAAI'9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854-C807-49F5-ACEE-E8643D75AD0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References (SAT)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66280" y="1628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. Bonet, J. Levy and F. Manya. A complete calculus for max-sat. In SAT 2006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. Davis &amp; H. Putnam. A computation procedure for quantification theory. In JACM 3 (7) 196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. Rish and R. Dechter. Resolution versus Search: Two Strategies for SAT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n Journal of Automated Reasoning,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24 (1-2), 200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. Heras &amp; J. Larrosa. New Inference Rules for Efficient Max-SAT Solving. In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AAAI 2006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J. Larrosa, F. Heras. Resolution in Max-SAT and its relation to local consistency in weighted CSPs.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n IJCAI 2005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.M. Li, F. Manya and J. Planes. Improved branch and bound algorithms for max-sat. In AAAI 2006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. Shen and H. Zhang. Study of lower bounds for max-2-sat. In proc. of AAAI 200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Z. Xing and W. Zhang. MaxSolver: An efficient exact algorithm for (weighted) maximum satisfiability. Artificial Intelligence 164 (1-2) 200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8EA-DF57-4547-B2CB-2C346B899B2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489480" cy="35287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987280" y="2133360"/>
            <a:ext cx="6156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 ensemble de photos à acquérir, d’importances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électionner le  </a:t>
            </a:r>
            <a:r>
              <a:rPr b="0" lang="en-US" sz="2200" spc="-1" strike="noStrike">
                <a:solidFill>
                  <a:srgbClr val="ff0101"/>
                </a:solidFill>
                <a:latin typeface="Tahoma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nsemble de photos compatibles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us les ressources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3 appareils embarqué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ande passante (bus), capacité mémoire, temps de préparation, orbit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101"/>
                </a:solidFill>
                <a:latin typeface="Tahoma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somme des importances ma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75760" y="1628640"/>
            <a:ext cx="77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rdonnancement de prise de vues satell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5AE-2213-4A04-8464-164D989021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Exempl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Actions combinatoi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Ensembles G de biens et B d’enchères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Enchère 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biens, </a:t>
            </a: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 valeu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trouver le </a:t>
            </a:r>
            <a:r>
              <a:rPr b="0" lang="fr-FR" sz="2200" spc="-1" strike="noStrike">
                <a:solidFill>
                  <a:srgbClr val="ff0101"/>
                </a:solidFill>
                <a:latin typeface="Tahoma"/>
              </a:rPr>
              <a:t>meilleur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sous-ensemble d’enchères compati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101"/>
                </a:solidFill>
                <a:latin typeface="Tahoma"/>
              </a:rPr>
              <a:t>meilleur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= maximiser le revenu (som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482480" y="4221000"/>
            <a:ext cx="5776560" cy="2184120"/>
            <a:chOff x="1482480" y="4221000"/>
            <a:chExt cx="5776560" cy="2184120"/>
          </a:xfrm>
        </p:grpSpPr>
        <p:sp>
          <p:nvSpPr>
            <p:cNvPr id="475" name=""/>
            <p:cNvSpPr/>
            <p:nvPr/>
          </p:nvSpPr>
          <p:spPr>
            <a:xfrm>
              <a:off x="2233800" y="5199840"/>
              <a:ext cx="442800" cy="28620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55680" y="5486040"/>
              <a:ext cx="442440" cy="28584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39600" y="4674240"/>
              <a:ext cx="442440" cy="28584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29200" y="4578480"/>
              <a:ext cx="442440" cy="28620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13720" y="4961160"/>
              <a:ext cx="442440" cy="28620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5120" y="5486040"/>
              <a:ext cx="442440" cy="28584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60880" y="5294520"/>
              <a:ext cx="442440" cy="28620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08880" y="4530960"/>
              <a:ext cx="442440" cy="28584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60880" y="4340880"/>
              <a:ext cx="2463120" cy="76248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76960" y="5294520"/>
              <a:ext cx="2274120" cy="667800"/>
            </a:xfrm>
            <a:prstGeom prst="ellipse">
              <a:avLst/>
            </a:prstGeom>
            <a:noFill/>
            <a:ln w="1908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80720" y="4530960"/>
              <a:ext cx="1832400" cy="157428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720" y="4340880"/>
              <a:ext cx="2022120" cy="1525680"/>
            </a:xfrm>
            <a:prstGeom prst="ellipse">
              <a:avLst/>
            </a:prstGeom>
            <a:noFill/>
            <a:ln w="1908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82480" y="5103360"/>
              <a:ext cx="405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r>
                <a:rPr b="0" lang="es-ES_tradnl" sz="20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4040" y="4782600"/>
              <a:ext cx="405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660033"/>
                  </a:solidFill>
                  <a:latin typeface="Arial"/>
                </a:rPr>
                <a:t>b</a:t>
              </a:r>
              <a:r>
                <a:rPr b="0" lang="es-ES_tradnl" sz="2000" spc="-1" strike="noStrike" baseline="-25000">
                  <a:solidFill>
                    <a:srgbClr val="660033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660033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660033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78760" y="5964480"/>
              <a:ext cx="739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6666ff"/>
                  </a:solidFill>
                  <a:latin typeface="Arial"/>
                </a:rPr>
                <a:t>b</a:t>
              </a:r>
              <a:r>
                <a:rPr b="0" lang="es-ES_tradnl" sz="2000" spc="-1" strike="noStrike" baseline="-25000">
                  <a:solidFill>
                    <a:srgbClr val="6666ff"/>
                  </a:solidFill>
                  <a:latin typeface="Arial"/>
                </a:rPr>
                <a:t>2   </a:t>
              </a:r>
              <a:r>
                <a:rPr b="0" lang="es-ES_tradnl" sz="2000" spc="-1" strike="noStrike">
                  <a:solidFill>
                    <a:srgbClr val="6666ff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6666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63280" y="4221000"/>
              <a:ext cx="739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00"/>
                  </a:solidFill>
                  <a:latin typeface="Arial"/>
                </a:rPr>
                <a:t>b</a:t>
              </a:r>
              <a:r>
                <a:rPr b="0" lang="es-ES_tradnl" sz="2000" spc="-1" strike="noStrike" baseline="-25000">
                  <a:solidFill>
                    <a:srgbClr val="ff9900"/>
                  </a:solidFill>
                  <a:latin typeface="Arial"/>
                </a:rPr>
                <a:t>3   </a:t>
              </a:r>
              <a:r>
                <a:rPr b="0" lang="es-ES_tradnl" sz="2000" spc="-1" strike="noStrike">
                  <a:solidFill>
                    <a:srgbClr val="ff9900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A29-C93A-4DDF-8748-117130EF3FE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Exempl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577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Traitement de réseaux d’informations probabiliste (produit), possibiliste (max)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879640" y="1989000"/>
            <a:ext cx="5869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Une distribution jointe définie par un  GOSC (DAG) de plausibilités conditionnel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Des observations (contraint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trouver l’explication la </a:t>
            </a:r>
            <a:r>
              <a:rPr b="0" i="1" lang="fr-FR" sz="2600" spc="-1" strike="noStrike">
                <a:solidFill>
                  <a:srgbClr val="ff0101"/>
                </a:solidFill>
                <a:latin typeface="Tahoma"/>
              </a:rPr>
              <a:t>plus plausible 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des observations (max-produit, min-max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1120" y="2808360"/>
            <a:ext cx="3135600" cy="263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5877000"/>
            <a:ext cx="89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Génétique, image, signal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champs markoviens, graphes de facte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A44-1D5C-4F92-9A6E-B5F34C220C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</a:rPr>
              <a:t>Réseaux de contraintes…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Valuées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Pondér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mi-anneau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Fl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Probabili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Réseau de fonctions de coût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62200" indent="-414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X={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...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2200" indent="-414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{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...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domaines fin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2200" indent="-414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{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...}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fonctions de coût 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39480" indent="-375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∅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rtée S,{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,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},{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},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39480" indent="-3754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i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): 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E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 (ordonné p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≼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≼T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Tahoma"/>
              </a:rPr>
              <a:t>Fonction jointe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i="1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0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)= </a:t>
            </a:r>
            <a:r>
              <a:rPr b="0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i="1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i="1" lang="es-ES" sz="2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 (X[S]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Tahoma"/>
              </a:rPr>
              <a:t>Solution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i="1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s-ES" sz="26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 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Tahoma"/>
              </a:rPr>
              <a:t>Requête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s-ES" sz="2600" spc="-1" strike="noStrike">
                <a:solidFill>
                  <a:srgbClr val="ff0101"/>
                </a:solidFill>
                <a:latin typeface="Tahoma"/>
              </a:rPr>
              <a:t>Minimiser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la fonction join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340680" y="285264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eut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45012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mutat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ssociat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onot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867280" y="321300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148360" y="4652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445080" y="4221000"/>
            <a:ext cx="142920" cy="8654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443640" y="3573000"/>
            <a:ext cx="649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7109280" y="3357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bsorb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7BB-E19F-4F56-B388-C66F03DAF9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56000" y="2349360"/>
            <a:ext cx="1008000" cy="100836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ahoma"/>
              </a:rPr>
              <a:t>Exemple CSP classique (3-coloriage)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192400" y="1994040"/>
            <a:ext cx="609480" cy="6094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269440" y="199404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192400" y="3213000"/>
            <a:ext cx="609480" cy="6098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269440" y="321300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2192400" y="4432320"/>
            <a:ext cx="609480" cy="6094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2269440" y="443232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973080" y="3213000"/>
            <a:ext cx="609480" cy="6098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050120" y="321300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411360" y="3213000"/>
            <a:ext cx="609840" cy="6098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488400" y="321300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506600" y="2527200"/>
            <a:ext cx="761760" cy="76212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496960" y="2603520"/>
            <a:ext cx="0" cy="60948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582560" y="3517920"/>
            <a:ext cx="609840" cy="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801880" y="3517920"/>
            <a:ext cx="609480" cy="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2496960" y="3822840"/>
            <a:ext cx="0" cy="60948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266000" y="4149720"/>
            <a:ext cx="28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Pour chaque arê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(contrain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20000" y="2637000"/>
          <a:ext cx="1512720" cy="34002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7920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f(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,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B69-9147-43DA-8BE5-3C83B6C334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56000" y="2349360"/>
            <a:ext cx="1008000" cy="100836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Réseau pondéré (WCSP, </a:t>
            </a:r>
            <a:r>
              <a:rPr b="1" lang="fr-FR" sz="3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fr-FR" sz="3400" spc="-1" strike="noStrike">
                <a:solidFill>
                  <a:srgbClr val="000000"/>
                </a:solidFill>
                <a:latin typeface="Tahoma"/>
              </a:rPr>
              <a:t> = +)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192400" y="1994040"/>
            <a:ext cx="609480" cy="6094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2269440" y="199404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2192400" y="3213000"/>
            <a:ext cx="609480" cy="6098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269440" y="321300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4432320"/>
            <a:ext cx="609480" cy="6094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269440" y="443232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973080" y="3213000"/>
            <a:ext cx="609480" cy="6098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050120" y="321300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411360" y="3213000"/>
            <a:ext cx="609840" cy="6098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3488400" y="3213000"/>
            <a:ext cx="52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80f"/>
                </a:solidFill>
                <a:latin typeface="Tahoma"/>
                <a:ea typeface="新細明體"/>
              </a:rPr>
              <a:t>x</a:t>
            </a:r>
            <a:r>
              <a:rPr b="0" lang="en-US" sz="3200" spc="-1" strike="noStrike" baseline="-25000">
                <a:solidFill>
                  <a:srgbClr val="07080f"/>
                </a:solidFill>
                <a:latin typeface="Tahoma"/>
                <a:ea typeface="新細明體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06600" y="2527200"/>
            <a:ext cx="761760" cy="76212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2496960" y="2603520"/>
            <a:ext cx="0" cy="60948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582560" y="3517920"/>
            <a:ext cx="609840" cy="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801880" y="3517920"/>
            <a:ext cx="609480" cy="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496960" y="3822840"/>
            <a:ext cx="0" cy="609480"/>
          </a:xfrm>
          <a:prstGeom prst="line">
            <a:avLst/>
          </a:prstGeom>
          <a:ln w="38160">
            <a:solidFill>
              <a:srgbClr val="0708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30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): nombre de sommets qui ne sont pas b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602240" y="184464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Pour chaque somm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292720" y="2282760"/>
          <a:ext cx="936720" cy="1469880"/>
        </p:xfrm>
        <a:graphic>
          <a:graphicData uri="http://schemas.openxmlformats.org/drawingml/2006/table">
            <a:tbl>
              <a:tblPr/>
              <a:tblGrid>
                <a:gridCol w="360360"/>
                <a:gridCol w="576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f(x</a:t>
                      </a:r>
                      <a:r>
                        <a:rPr b="1" lang="en-US" sz="1600" spc="-1" strike="noStrike" baseline="-25000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07080f"/>
                          </a:solidFill>
                          <a:latin typeface="Tahoma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78F-B345-4F4F-9D27-7112A1BD0F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2:31:47Z</dcterms:created>
  <dc:creator>Tom</dc:creator>
  <dc:description/>
  <dc:language>en-US</dc:language>
  <cp:lastModifiedBy> </cp:lastModifiedBy>
  <dcterms:modified xsi:type="dcterms:W3CDTF">2007-07-03T07:39:04Z</dcterms:modified>
  <cp:revision>436</cp:revision>
  <dc:subject/>
  <dc:title>Soft constraint proces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